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2.jpeg" ContentType="image/jpeg"/>
  <Override PartName="/ppt/media/image10.wmf" ContentType="image/x-wmf"/>
  <Override PartName="/ppt/media/image11.jpeg" ContentType="image/jpeg"/>
  <Override PartName="/ppt/media/image23.wmf" ContentType="image/x-wmf"/>
  <Override PartName="/ppt/media/image7.wmf" ContentType="image/x-wmf"/>
  <Override PartName="/ppt/media/image6.wmf" ContentType="image/x-wmf"/>
  <Override PartName="/ppt/media/image9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4.jpeg" ContentType="image/jpeg"/>
  <Override PartName="/ppt/media/image1.wmf" ContentType="image/x-wmf"/>
  <Override PartName="/ppt/media/image18.gif" ContentType="image/gif"/>
  <Override PartName="/ppt/media/image5.jpeg" ContentType="image/jpeg"/>
  <Override PartName="/ppt/media/image20.wmf" ContentType="image/x-wmf"/>
  <Override PartName="/ppt/media/image17.wmf" ContentType="image/x-wmf"/>
  <Override PartName="/ppt/media/image16.jpeg" ContentType="image/jpeg"/>
  <Override PartName="/ppt/media/image15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A4E6-AFBC-4133-B602-33163431F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D5C3-9C3E-4F2D-8FB1-65382E0B3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0039-F09F-440A-BBBD-5BF970572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CBCE-9AA3-42B5-B26E-68EC8237E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4ECD-736B-43E7-A23A-CAFFD58E7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E3A2-7907-451C-9EA3-925D0F63F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33E9-2AC8-4B00-8C70-3881F30E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A684-48BF-4EA8-862F-3A3A2EC1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F2A7-3E92-4B37-ABA7-A548292FE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2786-2551-43C4-BECD-4270D460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1079-1946-4716-A453-16E2A150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A773-E44D-4FCA-9A35-14628009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72B9-E172-464E-A87C-F37F88FF5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images.1strowseats.com/300x180/300_3.jpg&amp;imgrefurl=http://www.1strowseats.com/NCAA_tickets/sugar_bowl_tickets/sugar_bowl_tickets.asp&amp;h=180&amp;w=300&amp;sz=14&amp;hl=en&amp;start=20&amp;tbnid=Kp9EFXAF00vOxM:&amp;tbnh=70&amp;tbnw=116&amp;prev=/images%3Fq%3DSugar%2BBowl%2Bticket%26svnum%3D10%26hl%3Den%26lr%3D%26safe%3Dactive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té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forgo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’ai oubli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652920" y="2581200"/>
            <a:ext cx="1838160" cy="169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ve (vous) your books in the classroo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issez vos livres dans la salle de clas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352680" y="2895480"/>
            <a:ext cx="2745000" cy="242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2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prefer rock (music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éfè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 r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743200" y="2971800"/>
            <a:ext cx="3962520" cy="3170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would like 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veux bi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6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play in a ban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joue dans un grou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048120" y="2819520"/>
            <a:ext cx="2981160" cy="217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went to the movies 3 times last month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suis allé(e) au ciné 3 fois le mois dern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352680" y="3124080"/>
            <a:ext cx="319248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i/Fau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érôme demande un petit service à Pier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ux! C’est Pierre qui demande un petit service à Jérôme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2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i/Fau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érôme a prêté 200 francs à son frère la semaine derniè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ux! Il lui a prêté 100 fran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9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4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i/F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rre veut inviter Corinne au conce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ux! Il veut inviter Armel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6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i/Fau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erre est fauch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ra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’s leave our books he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issons nos livres ic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657600" y="3352680"/>
            <a:ext cx="3041640" cy="1336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l groupe joue au concert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o Neg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o Negra mixed a number of styles: straight rock, latin music, and pun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manuchao.net/pasado/discographie.ph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0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you lend me 15 euro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eux-tu me p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êter 15 eur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Est-ce que tu peux me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êter 15 eur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133720" y="3048120"/>
            <a:ext cx="4190760" cy="279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y are inviting us to the party Friday n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Ils nous invitent à la boum vendredi so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590920" y="2514600"/>
            <a:ext cx="3654360" cy="410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 dog never obeys m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on chien ne m’obéit jama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250488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es, I am talking to you (all)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ui, je vous par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666880" y="2514600"/>
            <a:ext cx="3463920" cy="346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talkin’ to me??!!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u me parles!!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1771560" cy="169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me the money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rez-moi l’argen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re-moi l’argent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657600" y="3886200"/>
            <a:ext cx="1873080" cy="199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ric is giving his phone number to m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ic me donne son numéro de téléphon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505320" y="3200400"/>
            <a:ext cx="2820960" cy="117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e you (tu) bringing us a gif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-ce que tu nous apportes un cadea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us apportes-tu un cadea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581280" y="3657600"/>
            <a:ext cx="2144880" cy="20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9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4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an me a dollar, please. (tu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ête-moi un dollar, s’il te plaî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114800" y="2971800"/>
            <a:ext cx="1862280" cy="1882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. Silver goes out three times per wee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Silver sort trois fois par sema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733920" y="3200400"/>
            <a:ext cx="1619280" cy="2028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’m giving you back the book. (tu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te rends le liv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971800" y="2743200"/>
            <a:ext cx="3629160" cy="343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8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’m keeping my ticke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e garde mon bill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3200400"/>
            <a:ext cx="2762280" cy="166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time does the show begi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quelle heure est-ce que la séance comm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quelle heure commence la séa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114800" y="4191120"/>
            <a:ext cx="1838160" cy="15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kind of movie is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le sorte de film est-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 genre de film est-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581280" y="3276720"/>
            <a:ext cx="2260800" cy="2895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’s a horror movie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’est un film d’horreu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124080" y="2543040"/>
            <a:ext cx="2351160" cy="230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2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movies are play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s films est-ce qu’on jo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s films joue-t-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62520" y="2971800"/>
            <a:ext cx="236052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o is your (tu) favorite actre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 est ton actrice favori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 est ton actrice préféré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743200" y="3124080"/>
            <a:ext cx="381492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3:56:16Z</dcterms:created>
  <dc:creator>nbarthenheier</dc:creator>
  <dc:description/>
  <dc:language>en-US</dc:language>
  <cp:lastModifiedBy>nbarthenheier</cp:lastModifiedBy>
  <dcterms:modified xsi:type="dcterms:W3CDTF">2008-02-05T13:56:37Z</dcterms:modified>
  <cp:revision>1</cp:revision>
  <dc:subject/>
  <dc:title>Unité 4</dc:title>
</cp:coreProperties>
</file>